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094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57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657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4182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265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094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4182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2265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c29b4e"/>
              </a:gs>
              <a:gs pos="50000">
                <a:srgbClr val="ffcc66"/>
              </a:gs>
              <a:gs pos="100000">
                <a:srgbClr val="c29b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1295280"/>
            <a:ext cx="8076960" cy="76320"/>
          </a:xfrm>
          <a:prstGeom prst="rect">
            <a:avLst/>
          </a:prstGeom>
          <a:gradFill rotWithShape="0">
            <a:gsLst>
              <a:gs pos="0">
                <a:srgbClr val="8f7239"/>
              </a:gs>
              <a:gs pos="50000">
                <a:srgbClr val="ffcc66"/>
              </a:gs>
              <a:gs pos="100000">
                <a:srgbClr val="8f72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75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4" name="Picture 6" descr="FSM logo short-t"/>
          <p:cNvPicPr/>
          <p:nvPr/>
        </p:nvPicPr>
        <p:blipFill>
          <a:blip r:embed="rId2"/>
          <a:stretch/>
        </p:blipFill>
        <p:spPr>
          <a:xfrm>
            <a:off x="457200" y="304920"/>
            <a:ext cx="60480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gradFill rotWithShape="0">
            <a:gsLst>
              <a:gs pos="0">
                <a:srgbClr val="8f7239"/>
              </a:gs>
              <a:gs pos="50000">
                <a:srgbClr val="ffcc66"/>
              </a:gs>
              <a:gs pos="100000">
                <a:srgbClr val="8f723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914400" y="3352680"/>
            <a:ext cx="7467480" cy="381240"/>
          </a:xfrm>
          <a:prstGeom prst="rect">
            <a:avLst/>
          </a:prstGeom>
          <a:gradFill rotWithShape="0">
            <a:gsLst>
              <a:gs pos="0">
                <a:srgbClr val="8f7239"/>
              </a:gs>
              <a:gs pos="50000">
                <a:srgbClr val="ffcc66"/>
              </a:gs>
              <a:gs pos="100000">
                <a:srgbClr val="8f72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22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22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225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2251"/>
              </a:spcBef>
              <a:buClr>
                <a:srgbClr val="33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676520"/>
            <a:ext cx="7162920" cy="1676160"/>
          </a:xfrm>
          <a:prstGeom prst="rect">
            <a:avLst/>
          </a:prstGeom>
          <a:solidFill>
            <a:srgbClr val="f2f2f2"/>
          </a:solidFill>
          <a:ln w="936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  <a:ea typeface="Calibri"/>
              </a:rPr>
              <a:t>Cirrhosis</a:t>
            </a:r>
            <a:endParaRPr b="0" lang="en-US" sz="7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380880" y="38098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Dr. Abdelaty Shawky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ssistant professor of pathology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39" name="Picture 4" descr="D:\mcst logo.jpg"/>
          <p:cNvPicPr/>
          <p:nvPr/>
        </p:nvPicPr>
        <p:blipFill>
          <a:blip r:embed="rId1"/>
          <a:stretch/>
        </p:blipFill>
        <p:spPr>
          <a:xfrm>
            <a:off x="5334120" y="344520"/>
            <a:ext cx="330516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2060"/>
                </a:solidFill>
                <a:uFillTx/>
                <a:latin typeface="Arial"/>
              </a:rPr>
              <a:t>B. Acquired cirrhosis: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Post-hepatitic (viral)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2. Alcoholic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3. Biliary cirrhosis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. Cirrhosis caused by circulatory disorders e.g. cardiac cirrhosis, Veno-occlusive disease and Budd-Chiari cirrhosis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* Complications of Cirrhosis: 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1. Liver cell Failure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2. Portal hypertension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3. Hepatocellular carcinoma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1. Liver cell failure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1. Jaundice: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Hepatocelluar jaundice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2. Hyporpteinaemia: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due to decreased formation of plasma proteins. Contributes in generalized edema formation and ascitis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3. Vitamin deficiency: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Vit. A, K, B12, folic acid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4. Coagulation defect: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due deficiency of fibrinogen, factors V, VII, IX, X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05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5. Anemia: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due to repeated hemorrhage, hypersplenism, B12 and folic acid deficiency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6. Hypoglycemia: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due to defects in carbohydrate metabolism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549360"/>
            <a:ext cx="8362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Arial"/>
              </a:rPr>
              <a:t>7. Hormone disturbances:</a:t>
            </a:r>
            <a:endParaRPr b="0" lang="en-US" sz="35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6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00"/>
                </a:solidFill>
                <a:uFillTx/>
                <a:latin typeface="Arial"/>
              </a:rPr>
              <a:t>Increased serum aldosterone leads: </a:t>
            </a: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to salt &amp; water retention.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6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00"/>
                </a:solidFill>
                <a:uFillTx/>
                <a:latin typeface="Arial"/>
              </a:rPr>
              <a:t>Increased estrogen leads to: 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11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Gynaecomastia.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11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Hypogonadism (testicular atrophy and loss of libido in males). 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11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Menstrual disturbances in females.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11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Palmer erythema (local vasodilation).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11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Spider angiomas of skin: Each angioma is a central, pulsating, dilated arteriole from which small vessels radiate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Gynaecomastia</a:t>
            </a:r>
            <a:br>
              <a:rPr sz="3200"/>
            </a:b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66" name="Picture 4" descr="gynecoma"/>
          <p:cNvPicPr/>
          <p:nvPr/>
        </p:nvPicPr>
        <p:blipFill>
          <a:blip r:embed="rId1"/>
          <a:stretch/>
        </p:blipFill>
        <p:spPr>
          <a:xfrm>
            <a:off x="2057400" y="1219320"/>
            <a:ext cx="4648320" cy="528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almer erythema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42048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Spider angioma 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0492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8. Ascites: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Due to salt &amp; water retention, portal hypertension and hyporpteinaemia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Definition: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c4c4c"/>
                </a:solidFill>
                <a:latin typeface="Calibri"/>
                <a:ea typeface="Calibri"/>
              </a:rPr>
              <a:t>Chronic, diffuse, irreversible disorder of  the liver characterized by loss of the normal liver architecture and replacement by regenerating nodules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112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Ascites 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25056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9. Hepatic encephalopathy: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Neurological disturbances (apathy, disorientation, asterixis i.e. flapping tremors and coma) due to toxic amonia which are formed in intestine and not detoxified in liver so pass directly to brain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23640" y="549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10. Foetor hepaticus: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a characteristic bad (musty) odor smelled from the body and mouth of the patients due to formation of mercaptans by the action of gastrointestinal bacteria on the sulfur-containing amino acid methionine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2. Portal hypertension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0520" y="8380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Effects of Portal hypertension: 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00"/>
                </a:solidFill>
                <a:latin typeface="Arial"/>
              </a:rPr>
              <a:t>1. Varices: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esophageal varices, piles. 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00"/>
                </a:solidFill>
                <a:latin typeface="Arial"/>
              </a:rPr>
              <a:t>2. Splenomegaly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due to splenic congestion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00"/>
                </a:solidFill>
                <a:latin typeface="Arial"/>
              </a:rPr>
              <a:t>3. Ascites </a:t>
            </a: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which is accumulation of  transudate in the peritoneal cavity.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78080" y="5791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Bradley Hand ITC"/>
              </a:rPr>
              <a:t>Thanks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79" name="Picture 2" descr="C:\Users\ashawky\Desktop\537609_532248906799119_1451101252_n.jpg"/>
          <p:cNvPicPr/>
          <p:nvPr/>
        </p:nvPicPr>
        <p:blipFill>
          <a:blip r:embed="rId1"/>
          <a:stretch/>
        </p:blipFill>
        <p:spPr>
          <a:xfrm>
            <a:off x="685800" y="228600"/>
            <a:ext cx="5334120" cy="5881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Normal Liver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43" name="Picture 3" descr="gross normal"/>
          <p:cNvPicPr/>
          <p:nvPr/>
        </p:nvPicPr>
        <p:blipFill>
          <a:blip r:embed="rId1"/>
          <a:stretch/>
        </p:blipFill>
        <p:spPr>
          <a:xfrm>
            <a:off x="990720" y="1609560"/>
            <a:ext cx="7086600" cy="463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Micronodular cirrhosis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45" name="Picture 3" descr="g micronodular cirrhosis"/>
          <p:cNvPicPr/>
          <p:nvPr/>
        </p:nvPicPr>
        <p:blipFill>
          <a:blip r:embed="rId1"/>
          <a:stretch/>
        </p:blipFill>
        <p:spPr>
          <a:xfrm>
            <a:off x="838080" y="1376280"/>
            <a:ext cx="7620120" cy="500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Macronodular Cirrhosis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47" name="Picture 4" descr="g macronodular cirrhosis"/>
          <p:cNvPicPr/>
          <p:nvPr/>
        </p:nvPicPr>
        <p:blipFill>
          <a:blip r:embed="rId1"/>
          <a:stretch/>
        </p:blipFill>
        <p:spPr>
          <a:xfrm>
            <a:off x="838080" y="1347840"/>
            <a:ext cx="7696440" cy="505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Normal Liver Histology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49" name="Picture 3" descr="micro normal"/>
          <p:cNvPicPr/>
          <p:nvPr/>
        </p:nvPicPr>
        <p:blipFill>
          <a:blip r:embed="rId1"/>
          <a:stretch/>
        </p:blipFill>
        <p:spPr>
          <a:xfrm>
            <a:off x="685800" y="1295280"/>
            <a:ext cx="7924680" cy="518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0" name="Text Box 4"/>
          <p:cNvSpPr/>
          <p:nvPr/>
        </p:nvSpPr>
        <p:spPr>
          <a:xfrm>
            <a:off x="7318080" y="20574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1906920" y="48769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Liver Biopsy – Cirrhosis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53" name="Picture 3" descr="lp vhepatitis cirrhosis2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5240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00"/>
                </a:solidFill>
                <a:latin typeface="Arial"/>
              </a:rPr>
              <a:t>Liver Biopsy – Cirrhosis:</a:t>
            </a:r>
            <a:endParaRPr b="0" lang="en-US" sz="4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55" name="Picture 3" descr="lp cirrhosis tb"/>
          <p:cNvPicPr/>
          <p:nvPr/>
        </p:nvPicPr>
        <p:blipFill>
          <a:blip r:embed="rId1"/>
          <a:stretch/>
        </p:blipFill>
        <p:spPr>
          <a:xfrm>
            <a:off x="914400" y="1371600"/>
            <a:ext cx="767088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Etiological classification of Cirrhosis: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2060"/>
                </a:solidFill>
                <a:uFillTx/>
                <a:latin typeface="Arial"/>
              </a:rPr>
              <a:t>A. Congenital cirrhosis:</a:t>
            </a:r>
            <a:endParaRPr b="0" lang="en-US" sz="30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514440">
              <a:lnSpc>
                <a:spcPct val="150000"/>
              </a:lnSpc>
              <a:spcBef>
                <a:spcPts val="1400"/>
              </a:spcBef>
              <a:buClr>
                <a:srgbClr val="33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genital syphilis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514440">
              <a:lnSpc>
                <a:spcPct val="150000"/>
              </a:lnSpc>
              <a:spcBef>
                <a:spcPts val="1400"/>
              </a:spcBef>
              <a:buClr>
                <a:srgbClr val="33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emochromatosis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514440">
              <a:lnSpc>
                <a:spcPct val="150000"/>
              </a:lnSpc>
              <a:spcBef>
                <a:spcPts val="1400"/>
              </a:spcBef>
              <a:buClr>
                <a:srgbClr val="33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ilson disease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514440">
              <a:lnSpc>
                <a:spcPct val="150000"/>
              </a:lnSpc>
              <a:spcBef>
                <a:spcPts val="1400"/>
              </a:spcBef>
              <a:buClr>
                <a:srgbClr val="33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00"/>
                </a:solidFill>
                <a:latin typeface="Arial"/>
              </a:rPr>
              <a:t>α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 antitrypsin deficiency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03:45:54Z</dcterms:created>
  <dc:creator>IT</dc:creator>
  <dc:description/>
  <dc:language>en-US</dc:language>
  <cp:lastModifiedBy>Jihan Abdelmenam</cp:lastModifiedBy>
  <dcterms:modified xsi:type="dcterms:W3CDTF">2016-01-27T09:28:29Z</dcterms:modified>
  <cp:revision>257</cp:revision>
  <dc:subject/>
  <dc:title>Cirrhosis</dc:title>
</cp:coreProperties>
</file>